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6FD-9549-40C3-9F99-9A996662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4DE-B1D7-4696-BFBE-0FE1F48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F22-2626-43AD-88C6-AACF5EC6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D06-5FC8-4BE6-AFBE-DE9255A3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F7C8-439F-4A32-A368-B1AF5304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06A-71AC-4A19-B01D-1ACA29A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7A0-D42E-46F5-99DB-7968FDE1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A52-440A-4825-BF03-B5403A2A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00D8-E191-4792-B791-2B245495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D36E-1010-443F-B9CF-5343A6EB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503-8B72-4237-816E-7F7CE5A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F55-7CFE-4BE3-9BE4-8569321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F346-BD21-44E4-BCE7-C50B479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532-B91C-40C4-95CC-042FE72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1535-2C97-4FEB-BF66-C72A736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15D-0D14-4397-BBD4-11D6F982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9E0F-ABC9-4AC4-BF7C-E8381E5E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A3E-1C3F-4375-91E1-2246BEC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980-516C-41E8-A727-08386533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7EF-9509-4DCE-A246-841D973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BD7-991B-458A-ABAA-CC33C3A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CC5-2625-468C-ACAB-2B5438A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C1B-5559-4516-9B94-8212064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E9-B089-4E72-B2A7-84DFF8A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F9CE-C580-4B94-9B41-0B12D58FCB7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4371-33C1-4C54-B2CC-A3EB67364C8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218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225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eaeaea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2438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8954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0.81 or 1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3526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8098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91040" y="42670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0120" y="4724280"/>
            <a:ext cx="1371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35.453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r 3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5638680"/>
            <a:ext cx="1066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4.003 or 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6:03Z</dcterms:modified>
  <cp:revision>6</cp:revision>
  <dc:subject/>
  <dc:title>Slide 1</dc:title>
</cp:coreProperties>
</file>